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6D6F-2D1A-4E5F-8E87-C0A75F8C65B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and con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and con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al warming will therefore  lead to fl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will therefore  lead to fl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all this burning of fossil fuels leading to an Earth that is suffering form many environmental probl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ll this burning of fossil fuels leading to an Earth that is suffering form many environmental proble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blems from the pollution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ning fossil fue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poisoning has been shown to affect the development and progress of children living near motorw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 and gases in the air can lead to smog above large industrialised c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ole is developing in the ozone layer which therefore will not filter out harmful ultra-violet rays from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blems from the pollution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ing fossil fu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poisoning has been shown to affect the development and progress of children living near motor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st and gases in the air can lead to smog above large industrialised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ole is developing in the ozone layer which therefore will not filter out harmful ultra-violet rays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to conserve our fossil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icity we produce from burning fossil fuels could also be made using renewable energy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sense to save the oil we have left for making fuel for transport and for making pla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try to save wasting energy from fossil fuels during domestic use in our homes and from waste transport consumption of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conserve our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icity we produce from burning fossil fuels could also be made using renewable energy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kes sense to save the oil we have left for making fuel for transport and for making pla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try to save wasting energy from fossil fuels during domestic use in our homes and from waste transport consumption of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energy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electric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therm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mass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energy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electric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d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therm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mas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power stations can produce large amounts of energy from small amounts of nuclear fuel. (Radioactive materials naturally release he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adiation is extremely dange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safety standards are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te materials stay radioactive for thousands of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have been some disastrous accidents at nuclear power stations which have affected all living things in th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ower stations can produce large amounts of energy from small amounts of nuclear fuel. (Radioactive materials naturally release he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ation is extremely danger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afety standards are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te materials stay radioactive for thousand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have been some disastrous accidents at nuclear power stations which have affected all living things in th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article for a newspaper or a magazine, outlining the need for energy con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fuels: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 : why we need to conserv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: problems of 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energy sources (advantages &amp; disadvant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article for a newspaper or a magazine, outlining the need for energy con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s fuels: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: why we need to conserv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: problems of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energy sources (advantages &amp; disadvant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our main energy sourc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strialised countries need large amount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is energy comes form fossil fuels which are burnt in power stations, factories, homes and veh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fossil fuels formed millions of years ago, and are non-renew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the fossil fuels have been used up there will be no more to replac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our main energy sour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sed countries need large amounts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is energy comes form fossil fuels which are burnt in power stations, factories, homes and veh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fossil fuels formed millions of years ago, and are non-rene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 fossil fuels have been used up there will be no more to replac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useful for other things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a mixture of different com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eparate these substances by a process called fractional disti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fractions include fuels like petrol, diesel and aviation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s of oil are also used to make plastics, medicines, paints, dyes and even wax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useful for other things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a mixture of different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eparate these substances by a process called fractional disti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fractions include fuels like petrol, diesel and aviation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oil are also used to make plastics, medicines, paints, dyes and even wax ca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burning fossil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ge amounts of carbon dioxide are given off into the atm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auses global warming or the greenhouse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l-burning power stations also give off sulphur dioxide gas which leads to 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burning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e amounts of carbon dioxide are given off into the 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causes global warming or 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l-burning power stations also give off sulphur dioxide gas which leads to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greenhouse eff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gas acts like the glass in a green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radiation from the Sun is usually reflected back into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nhouse gases stop this, and heat is reflected back to the Earth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greenhouse eff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gas acts like the glass in a green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radiation from the Sun is usually reflected back into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gases stop this, and heat is reflected back to the Earth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roblems with global warm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temperature of the Earth will r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lead to drough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problems with global warm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erage temperature of the Earth will 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lead to drou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s of weather will occur hurricanes and 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s of weather will occur hurricanes and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rease in temperature will speed up the melting of the polar ice ca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crease in temperature will speed up the melting of the polar ice c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99E4-D651-4848-8143-DA548217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4EF-0911-4518-AF75-5E07AE7E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A84-9BEA-4627-A8FD-FF548B72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2B5-0C92-4EEF-9A6D-CBBA4FAF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DDA3-C670-4E4C-895B-2792A622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03C2-693F-4AD1-B97D-06119930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C95B-DC35-4F99-83B7-5DDF9364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630E-0555-4246-B98E-888A97F7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7212-EE99-4317-99A1-A0871573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6581-AFE1-49E4-9BAE-E173A829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1963-6498-4B7F-A6B0-957F2F20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68F3-D150-43DD-91BD-89A22B80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9F7E-C667-4E2B-A8A1-B3C47959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8917-9D00-4038-9619-1C34B05B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6768-551C-4958-95D0-15F2D9C5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065B-9455-4898-A41C-D2B0DAC2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C775-E11F-461E-A519-C47289DE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031-6E00-49C9-BA7E-9B2FAC8A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4966-94DA-459C-826A-44930F82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A735-57BD-4BB9-B741-383E5418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4106-4816-4AF6-A8E1-F4929501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49D9-E056-499B-A31C-508D91A4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7EE2-946F-4242-A83D-8F460974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A3C-67AC-458B-83AD-4A8BB5B4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A8FA-E953-4A07-9D75-34263D0F0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7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9C9C-C20C-4490-9481-B2DBDFEE7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1447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Energy and conserv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floods"/>
          <p:cNvPicPr/>
          <p:nvPr/>
        </p:nvPicPr>
        <p:blipFill>
          <a:blip r:embed="rId1"/>
          <a:stretch/>
        </p:blipFill>
        <p:spPr>
          <a:xfrm>
            <a:off x="1447920" y="2362320"/>
            <a:ext cx="6933960" cy="37130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lobal warming will therefore  lead to flo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 all this burning of fossil fuels leading to an Earth that is suffering form many environmental probl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Picture 6" descr="polluted Earth"/>
          <p:cNvPicPr/>
          <p:nvPr/>
        </p:nvPicPr>
        <p:blipFill>
          <a:blip r:embed="rId2"/>
          <a:stretch/>
        </p:blipFill>
        <p:spPr>
          <a:xfrm>
            <a:off x="4648320" y="2571840"/>
            <a:ext cx="38098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66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Other problems from the pollution from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burning fossil fuels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Lead poisoning has been shown to affect the development and progress of children living near motorw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ust and gases in the air can lead to smog above large industrialised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A hole is developing in the ozone layer which therefore will not filter out harmful ultra-violet rays from the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3" name="Picture 4" descr="smog"/>
          <p:cNvPicPr/>
          <p:nvPr/>
        </p:nvPicPr>
        <p:blipFill>
          <a:blip r:embed="rId4"/>
          <a:stretch/>
        </p:blipFill>
        <p:spPr>
          <a:xfrm>
            <a:off x="1752480" y="1371600"/>
            <a:ext cx="51818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We need to conserve our fossil fuel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electricity we produce from burning fossil fuels could also be made using renewable energ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t makes sense to save the oil we have left for making fuel for transport and for making pla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e could try to save wasting energy from fossil fuels during domestic use in our homes and from waste transport consumption of fu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Alternative energy sourc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80988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i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ydroelectric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lar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idal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uclear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eothermal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iomass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8" name="Picture 5" descr="renewablesun"/>
          <p:cNvPicPr/>
          <p:nvPr/>
        </p:nvPicPr>
        <p:blipFill>
          <a:blip r:embed="rId8"/>
          <a:stretch/>
        </p:blipFill>
        <p:spPr>
          <a:xfrm>
            <a:off x="7315200" y="838080"/>
            <a:ext cx="1054080" cy="1219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solar power"/>
          <p:cNvPicPr/>
          <p:nvPr/>
        </p:nvPicPr>
        <p:blipFill>
          <a:blip r:embed="rId9"/>
          <a:stretch/>
        </p:blipFill>
        <p:spPr>
          <a:xfrm>
            <a:off x="4876920" y="5257800"/>
            <a:ext cx="1828800" cy="12668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hydroelectricity"/>
          <p:cNvPicPr/>
          <p:nvPr/>
        </p:nvPicPr>
        <p:blipFill>
          <a:blip r:embed="rId10"/>
          <a:stretch/>
        </p:blipFill>
        <p:spPr>
          <a:xfrm>
            <a:off x="5486400" y="2459160"/>
            <a:ext cx="3276720" cy="2465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windpower"/>
          <p:cNvPicPr/>
          <p:nvPr/>
        </p:nvPicPr>
        <p:blipFill>
          <a:blip r:embed="rId11"/>
          <a:stretch/>
        </p:blipFill>
        <p:spPr>
          <a:xfrm>
            <a:off x="3733920" y="1066680"/>
            <a:ext cx="1473120" cy="1219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fuel&amp;fibre"/>
          <p:cNvPicPr/>
          <p:nvPr/>
        </p:nvPicPr>
        <p:blipFill>
          <a:blip r:embed="rId12"/>
          <a:stretch/>
        </p:blipFill>
        <p:spPr>
          <a:xfrm>
            <a:off x="1219320" y="5334120"/>
            <a:ext cx="21142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Problems with nuclear fuel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123720" y="190512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uclear power stations can produce large amounts of energy from small amounts of nuclear fuel. (Radioactive materials naturally release he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uclear radiation is extremely danger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igh safety standards are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aste materials stay radioactive for thousands of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e have been some disastrous accidents at nuclear power stations which have affected all living things in the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Picture 6" descr="sellafield"/>
          <p:cNvPicPr/>
          <p:nvPr/>
        </p:nvPicPr>
        <p:blipFill>
          <a:blip r:embed="rId6"/>
          <a:stretch/>
        </p:blipFill>
        <p:spPr>
          <a:xfrm>
            <a:off x="30492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634212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cc6600"/>
                </a:solidFill>
                <a:latin typeface="Times New Roman"/>
              </a:rPr>
              <a:t>Write an article for a newspaper or a magazine, outlining the need for energy conservation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4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Pla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s fuels: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 fuels : why we need to conserv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 fuels: problems of pol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lternative energy sources (advantages &amp; disadvant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blems with nuclear fu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What are our main energy sources?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6858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Industrialised countries need large amounts of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ost of this energy comes form fossil fuels which are burnt in power stations, factories, homes and vehi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hese fossil fuels formed millions of years ago, and are non-renew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nce the fossil fuels have been used up there will be no more to replac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Oil is useful for other things to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43434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il is a mixture of different compou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 can separate these substances by a process called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fractional distil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se fractions include fuels like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petrol, diesel and aviation fu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s of oil are also used to make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plastics, medicines, paints, dyes and even wax cand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Picture 5" descr="bd06973_"/>
          <p:cNvPicPr/>
          <p:nvPr/>
        </p:nvPicPr>
        <p:blipFill>
          <a:blip r:embed="rId5"/>
          <a:stretch/>
        </p:blipFill>
        <p:spPr>
          <a:xfrm>
            <a:off x="5105520" y="2316240"/>
            <a:ext cx="335268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Problems with burning fossil fuel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1148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uge amoun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arbon dioxid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are given off into the atmosp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arbon dioxide causes </a:t>
            </a:r>
            <a:r>
              <a:rPr b="1" lang="en-GB" sz="2400" spc="-1" strike="noStrike">
                <a:solidFill>
                  <a:srgbClr val="ff6600"/>
                </a:solidFill>
                <a:latin typeface="Tahoma"/>
              </a:rPr>
              <a:t>global warming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r the </a:t>
            </a:r>
            <a:r>
              <a:rPr b="1" lang="en-GB" sz="2400" spc="-1" strike="noStrike">
                <a:solidFill>
                  <a:srgbClr val="ffcc00"/>
                </a:solidFill>
                <a:latin typeface="Tahoma"/>
              </a:rPr>
              <a:t>greenhouse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al-burning power stations also give of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ulphur dioxid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gas which leads to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cid 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Picture 1032" descr="air-pollution"/>
          <p:cNvPicPr/>
          <p:nvPr/>
        </p:nvPicPr>
        <p:blipFill>
          <a:blip r:embed="rId4"/>
          <a:stretch/>
        </p:blipFill>
        <p:spPr>
          <a:xfrm>
            <a:off x="4648320" y="2514600"/>
            <a:ext cx="41148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What is the greenhouse effect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bon dioxide gas acts like the glass in a greenho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frared radiation from the Sun is usually reflected back into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eenhouse gases stop this, and heat is reflected back to the Earth ag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Picture 6" descr="greenhse"/>
          <p:cNvPicPr/>
          <p:nvPr/>
        </p:nvPicPr>
        <p:blipFill>
          <a:blip r:embed="rId4"/>
          <a:stretch/>
        </p:blipFill>
        <p:spPr>
          <a:xfrm>
            <a:off x="685800" y="23004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greenhouseEff"/>
          <p:cNvPicPr/>
          <p:nvPr/>
        </p:nvPicPr>
        <p:blipFill>
          <a:blip r:embed="rId1"/>
          <a:stretch/>
        </p:blipFill>
        <p:spPr>
          <a:xfrm>
            <a:off x="914400" y="99072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cc6600"/>
                </a:solidFill>
                <a:latin typeface="Times New Roman"/>
              </a:rPr>
              <a:t>What are the problems with global warming?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-228600" y="1447920"/>
            <a:ext cx="4572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e average temperature of the Earth will r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is can lead to drough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Picture 6" descr="drought2"/>
          <p:cNvPicPr/>
          <p:nvPr/>
        </p:nvPicPr>
        <p:blipFill>
          <a:blip r:embed="rId3"/>
          <a:stretch/>
        </p:blipFill>
        <p:spPr>
          <a:xfrm>
            <a:off x="4114800" y="1547640"/>
            <a:ext cx="472428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xtremes of weather will occur hurricanes and st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0" name="Picture 7" descr="large waves"/>
          <p:cNvPicPr/>
          <p:nvPr/>
        </p:nvPicPr>
        <p:blipFill>
          <a:blip r:embed="rId2"/>
          <a:stretch/>
        </p:blipFill>
        <p:spPr>
          <a:xfrm>
            <a:off x="228600" y="4038480"/>
            <a:ext cx="3352680" cy="2540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hurricanes_pic"/>
          <p:cNvPicPr/>
          <p:nvPr/>
        </p:nvPicPr>
        <p:blipFill>
          <a:blip r:embed="rId3"/>
          <a:stretch/>
        </p:blipFill>
        <p:spPr>
          <a:xfrm>
            <a:off x="1981080" y="1219320"/>
            <a:ext cx="31496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6240" y="502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e increase in temperature will speed up the melting of the polar ice c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6" descr="melting polar ice cap"/>
          <p:cNvPicPr/>
          <p:nvPr/>
        </p:nvPicPr>
        <p:blipFill>
          <a:blip r:embed="rId2"/>
          <a:stretch/>
        </p:blipFill>
        <p:spPr>
          <a:xfrm>
            <a:off x="836640" y="2147760"/>
            <a:ext cx="3506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5:24:08Z</dcterms:created>
  <dc:creator> </dc:creator>
  <dc:description/>
  <dc:language>en-US</dc:language>
  <cp:lastModifiedBy>RomaK</cp:lastModifiedBy>
  <dcterms:modified xsi:type="dcterms:W3CDTF">2015-09-01T16:23:58Z</dcterms:modified>
  <cp:revision>6</cp:revision>
  <dc:subject/>
  <dc:title>Energy and conservation</dc:title>
</cp:coreProperties>
</file>